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3.wmf" ContentType="image/x-wmf"/>
  <Override PartName="/ppt/media/image26.wmf" ContentType="image/x-wmf"/>
  <Override PartName="/ppt/media/image28.wmf" ContentType="image/x-wmf"/>
  <Override PartName="/ppt/media/image17.png" ContentType="image/png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.jpeg" ContentType="image/jpeg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4503-EFDB-4382-83FB-3ED16EBB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0FF9-049A-490C-B183-4EE464F76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532-1DE1-4089-A1BB-F9BCB470C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DBBE-E851-4453-9B99-16D6CCBD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AAC-1F4E-4B97-B1D0-C77A28DD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31D-8682-4A4C-8FBD-D9696248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C81B-0E57-4AE6-A7E6-B41797FC6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B1B-38A5-43A1-8B93-7ACBCB95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595-2DFD-43BC-8118-4751DFE8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0BC0-6124-4326-A9EF-56E139C4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BDB-AAD2-4709-A7BF-DDAF381B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60FE-AEDB-459C-898A-8BBC320D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ACB-58DA-424F-9CDE-32A04D61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43BE-D93E-43BF-ABE6-3CA47F88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E688-1B71-4851-9CB0-76E8AA31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3326-C25B-439D-A79A-3EBFA90A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D37B-539D-4AD1-B764-FD5AB5BC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A9F-A58D-479B-992F-788D50982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12D4-9EDF-4B14-BB70-103C9FCE4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71C-014D-4B45-AA96-8173F971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F7B-A4DC-40EE-9FC8-D88460B2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C8E4-BBB9-4C05-BA3A-FA80C612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B15A-8568-4EC1-B864-A0B0B263D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436-E10D-4B31-9AC9-248461E2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137-0F7C-4E7D-8818-87718DE6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4AC-850C-404D-B09E-6F292640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822-21B3-4E41-A6ED-38E3B8E9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D4F-C4C6-4E7D-B08F-078D3B73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964B-2864-43FD-AE3A-FF10602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CBE-7F05-4BCB-ACB3-FC13A9EF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9A2-9E7D-46A8-B1A7-9C03F717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39A-7DA2-4474-916D-33B49577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03B-6CB5-4D17-9C88-95D1F3D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CA4-D9C8-4D71-AACD-742F63C9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157-D476-4249-ADF1-55D65E0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98E-4187-48CE-AC6C-F1213FD3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2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15.xml"/><Relationship Id="rId8" Type="http://schemas.openxmlformats.org/officeDocument/2006/relationships/slide" Target="slide11.xml"/><Relationship Id="rId9" Type="http://schemas.openxmlformats.org/officeDocument/2006/relationships/slide" Target="slide16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vanced Techniques For Integrating EncycloMedia Resources 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Organization Chart 3"/>
          <p:cNvGrpSpPr/>
          <p:nvPr/>
        </p:nvGrpSpPr>
        <p:grpSpPr>
          <a:xfrm>
            <a:off x="1676520" y="1447920"/>
            <a:ext cx="5562000" cy="2944440"/>
            <a:chOff x="1676520" y="1447920"/>
            <a:chExt cx="5562000" cy="2944440"/>
          </a:xfrm>
        </p:grpSpPr>
        <p:cxnSp>
          <p:nvCxnSpPr>
            <p:cNvPr id="84" name="_s1028"/>
            <p:cNvCxnSpPr>
              <a:stCxn id="85" idx="0"/>
              <a:endCxn id="86" idx="3"/>
            </p:cNvCxnSpPr>
            <p:nvPr/>
          </p:nvCxnSpPr>
          <p:spPr>
            <a:xfrm rot="10800000">
              <a:off x="4457880" y="218412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" name="_s1029"/>
            <p:cNvCxnSpPr>
              <a:stCxn id="88" idx="0"/>
              <a:endCxn id="86" idx="2"/>
            </p:cNvCxnSpPr>
            <p:nvPr/>
          </p:nvCxnSpPr>
          <p:spPr>
            <a:xfrm flipV="1">
              <a:off x="4060800" y="218412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" name="_s1030"/>
            <p:cNvCxnSpPr>
              <a:stCxn id="90" idx="0"/>
              <a:endCxn id="86" idx="1"/>
            </p:cNvCxnSpPr>
            <p:nvPr/>
          </p:nvCxnSpPr>
          <p:spPr>
            <a:xfrm flipV="1" rot="16200000">
              <a:off x="4418280" y="222408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" name="_s1031"/>
            <p:cNvCxnSpPr>
              <a:stCxn id="92" idx="0"/>
              <a:endCxn id="86" idx="0"/>
            </p:cNvCxnSpPr>
            <p:nvPr/>
          </p:nvCxnSpPr>
          <p:spPr>
            <a:xfrm flipH="1" flipV="1" rot="5400000">
              <a:off x="3026520" y="222516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" name="_s1032"/>
            <p:cNvSpPr/>
            <p:nvPr/>
          </p:nvSpPr>
          <p:spPr>
            <a:xfrm>
              <a:off x="3265920" y="1447920"/>
              <a:ext cx="238500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2" name="_s1033"/>
            <p:cNvSpPr/>
            <p:nvPr/>
          </p:nvSpPr>
          <p:spPr>
            <a:xfrm>
              <a:off x="1873440" y="3657240"/>
              <a:ext cx="238644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0" name="_s1034"/>
            <p:cNvSpPr/>
            <p:nvPr/>
          </p:nvSpPr>
          <p:spPr>
            <a:xfrm>
              <a:off x="4656960" y="3657240"/>
              <a:ext cx="238644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88" name="_s1035"/>
            <p:cNvSpPr/>
            <p:nvPr/>
          </p:nvSpPr>
          <p:spPr>
            <a:xfrm>
              <a:off x="1676520" y="2553120"/>
              <a:ext cx="238464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85" name="_s1036"/>
            <p:cNvSpPr/>
            <p:nvPr/>
          </p:nvSpPr>
          <p:spPr>
            <a:xfrm>
              <a:off x="4855320" y="2553120"/>
              <a:ext cx="23832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93" name="Line 29"/>
            <p:cNvSpPr/>
            <p:nvPr/>
          </p:nvSpPr>
          <p:spPr>
            <a:xfrm flipV="1">
              <a:off x="5790600" y="439092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Action Button: Custom 12">
            <a:hlinkClick r:id="rId5" action="ppaction://hlinksldjump"/>
          </p:cNvPr>
          <p:cNvSpPr/>
          <p:nvPr/>
        </p:nvSpPr>
        <p:spPr>
          <a:xfrm>
            <a:off x="1752480" y="2590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Action Button: Custom 13">
            <a:hlinkClick r:id="rId6" action="ppaction://hlinksldjump"/>
          </p:cNvPr>
          <p:cNvSpPr/>
          <p:nvPr/>
        </p:nvSpPr>
        <p:spPr>
          <a:xfrm>
            <a:off x="480060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0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1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1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1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5867280" y="48769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609480" y="4819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bedded)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5" name="methane powered dairy .asx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85136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assion flower.jpg"/>
          <p:cNvPicPr/>
          <p:nvPr/>
        </p:nvPicPr>
        <p:blipFill>
          <a:blip r:embed="rId2"/>
          <a:stretch/>
        </p:blipFill>
        <p:spPr>
          <a:xfrm>
            <a:off x="5257800" y="1600200"/>
            <a:ext cx="3657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 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” drop-down menu, sel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9" name="Picture 15" descr="block_exterior.jpg"/>
          <p:cNvPicPr/>
          <p:nvPr/>
        </p:nvPicPr>
        <p:blipFill>
          <a:blip r:embed="rId1"/>
          <a:stretch/>
        </p:blipFill>
        <p:spPr>
          <a:xfrm>
            <a:off x="7010280" y="1752480"/>
            <a:ext cx="192744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5562720" y="3048120"/>
            <a:ext cx="838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2007 PowerPoin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4920" y="838080"/>
            <a:ext cx="8610480" cy="54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“Insert” and sel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6477120" y="2181240"/>
            <a:ext cx="106668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Inspirati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AutoShape 14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AutoShape 15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AutoShape 16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4"/>
          <a:stretch/>
        </p:blipFill>
        <p:spPr>
          <a:xfrm>
            <a:off x="228600" y="838080"/>
            <a:ext cx="871056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1" name="Picture 22" descr=""/>
          <p:cNvPicPr/>
          <p:nvPr/>
        </p:nvPicPr>
        <p:blipFill>
          <a:blip r:embed="rId4"/>
          <a:stretch/>
        </p:blipFill>
        <p:spPr>
          <a:xfrm>
            <a:off x="838080" y="685800"/>
            <a:ext cx="7331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38080" y="5221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re two short movies created using “MovieMaker” which incorporate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Picture 7" descr="6152"/>
          <p:cNvPicPr/>
          <p:nvPr/>
        </p:nvPicPr>
        <p:blipFill>
          <a:blip r:embed="rId1"/>
          <a:stretch/>
        </p:blipFill>
        <p:spPr>
          <a:xfrm>
            <a:off x="838080" y="1752480"/>
            <a:ext cx="3581640" cy="318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780000" cy="3200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c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MovieMaker produc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gs (this are for elementary gr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Box 14"/>
          <p:cNvSpPr/>
          <p:nvPr/>
        </p:nvSpPr>
        <p:spPr>
          <a:xfrm>
            <a:off x="76320" y="1801800"/>
            <a:ext cx="8839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Equipmen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DV or hard drive digital video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that supports a digital video connectio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XP with Movie Maker version 2.1 or high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Link port (also known as FireWire or IEEE 1394) on your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accessories for computer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disk driv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VD burner with writeable DVD medi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phon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57200" y="464832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WikiSpaces Address: http://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380880" y="4495680"/>
            <a:ext cx="6019920" cy="1067040"/>
          </a:xfrm>
          <a:custGeom>
            <a:avLst/>
            <a:gdLst>
              <a:gd name="textAreaLeft" fmla="*/ 69120 w 6019920"/>
              <a:gd name="textAreaRight" fmla="*/ 5950800 w 6019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1827" h="21600">
                <a:moveTo>
                  <a:pt x="0" y="0"/>
                </a:moveTo>
                <a:lnTo>
                  <a:pt x="121827" y="0"/>
                </a:lnTo>
                <a:lnTo>
                  <a:pt x="121827" y="21600"/>
                </a:lnTo>
                <a:lnTo>
                  <a:pt x="0" y="21600"/>
                </a:lnTo>
                <a:close/>
              </a:path>
              <a:path fill="lightenLess" w="121827" h="21600">
                <a:moveTo>
                  <a:pt x="0" y="0"/>
                </a:moveTo>
                <a:lnTo>
                  <a:pt x="121827" y="0"/>
                </a:lnTo>
                <a:lnTo>
                  <a:pt x="120427" y="1400"/>
                </a:lnTo>
                <a:lnTo>
                  <a:pt x="1400" y="1400"/>
                </a:lnTo>
                <a:close/>
              </a:path>
              <a:path fill="darken" w="121827" h="21600">
                <a:moveTo>
                  <a:pt x="121827" y="0"/>
                </a:moveTo>
                <a:lnTo>
                  <a:pt x="121827" y="21600"/>
                </a:lnTo>
                <a:lnTo>
                  <a:pt x="120427" y="20200"/>
                </a:lnTo>
                <a:lnTo>
                  <a:pt x="120427" y="1400"/>
                </a:lnTo>
                <a:close/>
              </a:path>
              <a:path fill="darkenLess" w="121827" h="21600">
                <a:moveTo>
                  <a:pt x="1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427" y="20200"/>
                </a:lnTo>
                <a:close/>
              </a:path>
              <a:path fill="lighten" w="1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193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4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5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6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7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cxnSp>
        <p:nvCxnSpPr>
          <p:cNvPr id="198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99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0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1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02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05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06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08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09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11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12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15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16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GabCast Feedback </a:t>
            </a:r>
            <a:br>
              <a:rPr sz="4400"/>
            </a:b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nd Comment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your cell phones and dial the number liste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1-888-887-3127-Toll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prompted enter Channel Number: 211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enter password: 19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please leave your comments and feedback on the sessions today. Once you are finished, press 2 to publish your comment for us. Than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Documents and Settings\lmoore\Local Settings\Temporary Internet Files\Content.IE5\9ATK35MR\MPj04309340000[1]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2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228600" y="2743200"/>
            <a:ext cx="88390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304920" y="9907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380880" y="17524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80880" y="2514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1"/>
          <p:cNvSpPr/>
          <p:nvPr/>
        </p:nvSpPr>
        <p:spPr>
          <a:xfrm>
            <a:off x="380880" y="3276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4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3049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f I get this Page when logging in?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n click on Discovery Education Streamin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1-15T04:23:28Z</dcterms:modified>
  <cp:revision>203</cp:revision>
  <dc:subject/>
  <dc:title>Slide 1</dc:title>
</cp:coreProperties>
</file>